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20C-A3AD-48DB-ADEC-604A2C08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E7E-B7BB-4EB1-9711-9F3AA29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7F7-7991-4889-B90C-676725FA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036-57D2-4707-B852-32DB4373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3EEB-5EA4-4BCF-ACDE-4E9157A5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138A-5D43-4BB5-9FFD-1303D3D4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D279-A7DE-4AC1-ABC0-CE4F6B60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62DC-E205-48AC-B946-98CF6A78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B881-1354-4AB7-9D9B-93681E3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2B92-2AEF-4F2C-98AC-343D8F9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B2A8-4A71-49E0-B391-01928CD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5DB-6549-41BF-9E9A-17777A2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EA30-ABF1-4346-80E2-DA2F7F3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409-8C3E-4DD6-9BBF-9D18165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47A9-C297-4CD4-B292-EA127A60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CAC8-BE16-4319-893E-24078211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B919-3D48-493B-9911-33BE72B2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68F-D481-46E4-A8B5-7A3C61E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8D5-D56B-4712-A4B4-12695DF5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586-EF7C-4814-A962-F235E97B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DA1-082A-4861-A0B2-98F4EF2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3C1-FDCB-48FD-9DD8-6F9AF5C0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5A0-004A-4E4C-A2DF-142A37F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5FC-6DA1-4032-B721-8B4B40E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D70-6B8B-40EB-9C5B-91138872D57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B5F-A169-474E-89E6-5F81E71B6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04B-878A-4B99-AFFB-4EC8F6571C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E25-0B6A-45A9-9A43-07DB44C70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 love stamp coll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8C0-CCAE-4615-8C72-EA074AD9E01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362710D-232B-48F5-BD88-CC0404C6E7D0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fill="hold">
                <p:childTnLst>
                  <p:par>
                    <p:cTn id="3" fill="hold">
                      <p:stCondLst>
                        <p:cond evt="onBegin"/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stamp collec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where you collect used or new st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collect them from all over  th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be placed in cool bi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941-08D5-4169-A8C5-AA61D586FA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135DF-060F-4A75-97CC-28441F6F8FB1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mp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mp collecting is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mp collecting is an interesting hob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make money when you collect st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uzzle5"/>
          <p:cNvSpPr/>
          <p:nvPr/>
        </p:nvSpPr>
        <p:spPr>
          <a:xfrm>
            <a:off x="6019920" y="4327560"/>
            <a:ext cx="1523880" cy="12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uzzle2"/>
          <p:cNvSpPr/>
          <p:nvPr/>
        </p:nvSpPr>
        <p:spPr>
          <a:xfrm>
            <a:off x="5124600" y="5470560"/>
            <a:ext cx="1523880" cy="947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uzzle3"/>
          <p:cNvSpPr/>
          <p:nvPr/>
        </p:nvSpPr>
        <p:spPr>
          <a:xfrm>
            <a:off x="6294600" y="508176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D2E-373B-4B86-9DE2-A418F1A356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626D9-731D-4235-AB3C-2D711C62E201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alue of stam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mps are rare and are worth a lot of mon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ts may have only printed a limited quantity of the stamp which make sit valu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stamps in good condition are worth 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E82-AE06-41DB-B0D1-6338DC0E18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B3E87-E02B-4B54-A764-0A4FDE65B532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mp collecting is fun, exciting and profi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mps can be rare or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make new friends and join clu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BA1-A6E0-4DB6-B234-CD2FC74062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C2107-78D2-40BC-846A-56219FA6EFF9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to Get More In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mp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ty s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51A-3671-4BC0-BCAB-8F71481472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14E33-8C74-4984-895E-704288AD9E62}" type="datetime1">
              <a:rPr lang="en-US"/>
              <a:t>07/31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ina</cp:lastModifiedBy>
  <dcterms:modified xsi:type="dcterms:W3CDTF">2006-11-14T02:28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